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_rels/notesSlide7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0.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72.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4.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4.png" ContentType="image/png"/>
  <Override PartName="/ppt/media/image27.png" ContentType="image/png"/>
  <Override PartName="/ppt/media/image26.jpeg" ContentType="image/jpeg"/>
  <Override PartName="/ppt/media/image3.jpeg" ContentType="image/jpe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png" ContentType="image/png"/>
  <Override PartName="/ppt/media/image24.png" ContentType="image/png"/>
  <Override PartName="/ppt/media/image17.jpeg" ContentType="image/jpeg"/>
  <Override PartName="/ppt/media/image15.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5E620-7C03-4368-A1AE-D0B0CCAF5A90}"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8195F-07BD-44A4-BBCF-6D34C73438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8FD44-8DE8-432A-A733-116A86F4CB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5A016-6662-4A60-910E-7C49EBF3D5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198C2-751F-4B62-A9F7-63878975E0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FA8D2-F812-4C93-ADAB-F4858EFEDC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6EADC-7C9C-4C3F-952F-6BB52B056C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0F755-CC2A-461B-B8F9-93A10E7383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CEB5D-437B-4F42-997E-E577233BB8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2427C-4D08-4DB9-BD06-B4152C6F3B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846A2-FEB1-4872-A5FD-078B2417FB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AEAC7-B3D1-4FC5-B806-7B17A33D4D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E10A4-3BDB-4A7B-8979-99A37A7FD2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31FC8-EAF1-4B14-869A-2A150941E9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D93BE-1755-4654-A254-8355CB39E0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91760-78BB-41F2-9938-2E697CDACC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01A0E-7323-4E60-B848-5D207F79CE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0F50C-CDA5-45D7-A2E3-73DCFBA292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4A0BE-C9C2-4985-855F-E250C62927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D7A91-4FF0-4F7E-8A89-6B2B518E09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CD716-B8DF-451B-BC84-6D27B2456B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C7E4F-B9F7-4500-AE5C-F1F6A41053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EDB7A-FF4A-455E-97BC-DCBF5EC67B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51F9B-09FB-4FA8-8999-0C1C1885C5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5FBEE-E913-4745-AF34-205B559A40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8ED45-AF68-4064-A1E8-61FB56DB5A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2AC41-BCD3-46D9-891A-88665DCA4A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1DD6C-6F72-4E24-B0DF-97F7E94066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9D066-2AD1-42EF-B987-305CBC86CD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EC642-BB15-4DED-A9AE-537F90D8B8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429F5-6C1F-4BEE-A06A-5683277D50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FA2A2-BA94-4168-9339-92BD6714A7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7A2C5-F63D-49FB-B84A-1482AD1509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D7610-8AB2-468C-BADB-FA750C422C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7377D-08F1-4E7C-ACC2-E7442DC607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B0D80-019A-493C-936D-E524CA52E6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D510D-C0F3-4899-B4DE-E6B18CAC01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67913-1652-46C0-94B7-17882E1646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6C97E-1BE5-418E-921D-84CA9A556C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1F7A5-862F-4B8B-BC2A-5FE4768FF0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EB2EF-1513-4288-9E95-A1E0F494AC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3B511-447F-4471-BDC7-D7708800ED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9C508-1B6E-4876-96DC-78D2C7319F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1551C-66AA-445E-B12C-476E71DDC3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3E79E-F4BD-46FC-A5B3-1AEED74FEA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AB117-B6B3-44ED-997F-C15739E331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F9EA5-3054-4104-BCBD-71E1FA36CF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23F40-0D8C-41E0-AF02-FAD9DA1471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23E0F-5A3A-4A8F-A920-C4700AD29F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5FD09-9750-48ED-A3B7-803DABF809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3569E-1AF5-4578-AB6A-3E033EB0D8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FA52D-5A87-4896-94DA-A044A4D239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E7248-E5BF-493B-93F1-BE0EF9CDD3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2DE67-9529-492F-BE4D-D1AE780DD6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46B07-551B-4523-B3C2-51153A99CA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C5D6A-9D92-47B4-9A0F-C3FEC7343E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222FA-3546-4F44-8DA3-E47B01EDE2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B55A2-F472-4F2D-99EE-F03CEC1BB2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ABB28-7269-404A-A645-064C11CB61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540A9-515F-45E4-AA6C-2B5945EBDC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AB370-3EB2-4CFE-AEB1-E55FE7BC02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38472-A402-4D8A-8193-90EE8A7961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B357E-A1C2-4DD9-81A1-0C21353EB9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25197-105C-4A36-915A-DC8DF52996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B1246-CE36-4EAB-98E1-682BCB1A0B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CD9AF-698E-469E-8F9A-53D72CF8F8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CCB4D-DF5E-4752-97AB-3D78E5C39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7DBCF-8FAC-4ABA-8112-CD114C7E1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34AC8-E9E0-46D3-86A2-35C41CC6F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74A30-EEF1-4064-881F-8AF963F58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A78F6-673E-43D7-9A6C-211D3CBE1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E0738-7C97-4AAF-BCF2-4E5D3FA9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2AD73-0315-4F92-A083-A1EB04B2A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0323-4460-4835-8A1F-31CA7EFF4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79465-9C2C-4A39-879E-8AA07E86B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E49E2-BB03-4284-BCCA-5A412759D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FE58-D85A-4593-9048-32A3C20B9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D9183-9AB9-4F34-87F8-4443EA293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B2056-AA50-4D71-A0C2-C3CE7288D146}"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64684-DF90-4BC1-A331-FBD9EFDC2A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arkhacker.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http://www.scammailinc.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C3A4C34-A0C8-49F7-9FF3-FB1CB89655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42EC5-6CD4-4FF1-B024-334E6B416A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1035000" y="101520"/>
            <a:ext cx="7074000" cy="589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receive an anonymous report that cybercriminals have hacked into the main server of MENB. The cybercriminals have installed malware which randomly changes the size of the mouse cursor and the background wallpaper of all computers connected with the main server. Your investigation suggests that the malware was created by a group of hackers known as “DarkHacker”.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1" name="" descr=""/>
          <p:cNvPicPr/>
          <p:nvPr/>
        </p:nvPicPr>
        <p:blipFill>
          <a:blip r:embed="rId1"/>
          <a:stretch/>
        </p:blipFill>
        <p:spPr>
          <a:xfrm>
            <a:off x="457200" y="1600200"/>
            <a:ext cx="8229600" cy="4525920"/>
          </a:xfrm>
          <a:prstGeom prst="rect">
            <a:avLst/>
          </a:prstGeom>
          <a:ln w="0">
            <a:noFill/>
          </a:ln>
        </p:spPr>
      </p:pic>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DAF36-188A-4061-B171-52C5E10995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3" name="Picture 7" descr="Image result for darkhacker"/>
          <p:cNvPicPr/>
          <p:nvPr/>
        </p:nvPicPr>
        <p:blipFill>
          <a:blip r:embed="rId2"/>
          <a:srcRect l="0" t="24787" r="0" b="24640"/>
          <a:stretch/>
        </p:blipFill>
        <p:spPr>
          <a:xfrm>
            <a:off x="0" y="-30240"/>
            <a:ext cx="9123480" cy="3459240"/>
          </a:xfrm>
          <a:prstGeom prst="rect">
            <a:avLst/>
          </a:prstGeom>
          <a:ln w="0">
            <a:noFill/>
          </a:ln>
        </p:spPr>
      </p:pic>
      <p:pic>
        <p:nvPicPr>
          <p:cNvPr id="84" name="Picture 5" descr="Image result for size of the mouse cursor"/>
          <p:cNvPicPr/>
          <p:nvPr/>
        </p:nvPicPr>
        <p:blipFill>
          <a:blip r:embed="rId3"/>
          <a:stretch/>
        </p:blipFill>
        <p:spPr>
          <a:xfrm>
            <a:off x="0" y="3933720"/>
            <a:ext cx="3807000" cy="3030480"/>
          </a:xfrm>
          <a:prstGeom prst="rect">
            <a:avLst/>
          </a:prstGeom>
          <a:ln w="0">
            <a:noFill/>
          </a:ln>
        </p:spPr>
      </p:pic>
      <p:pic>
        <p:nvPicPr>
          <p:cNvPr id="85" name="Picture 2" descr="Image result for virus background display"/>
          <p:cNvPicPr/>
          <p:nvPr/>
        </p:nvPicPr>
        <p:blipFill>
          <a:blip r:embed="rId4"/>
          <a:stretch/>
        </p:blipFill>
        <p:spPr>
          <a:xfrm>
            <a:off x="3792600" y="3611520"/>
            <a:ext cx="5298840" cy="324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87356-A43C-4984-AE1B-50534A5368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604800" y="1190520"/>
            <a:ext cx="79614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part of your investigation, you identify the official website of DarkHacker as www.darkhacker.com.  You observe that </a:t>
            </a:r>
            <a:r>
              <a:rPr b="0" lang="en-US" sz="3200" spc="-1" strike="noStrike">
                <a:solidFill>
                  <a:srgbClr val="000000"/>
                </a:solidFill>
                <a:latin typeface="Calibri"/>
              </a:rPr>
              <a:t>software ostensibly designed for translating text Middle Earthean language to English is being sold on the website, but the software is marketed as also enabling hacking into computers.</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4FE00-DDE0-42E0-8C24-8A333B2E45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9" name="Picture 4" descr=""/>
          <p:cNvPicPr/>
          <p:nvPr/>
        </p:nvPicPr>
        <p:blipFill>
          <a:blip r:embed="rId1"/>
          <a:stretch/>
        </p:blipFill>
        <p:spPr>
          <a:xfrm>
            <a:off x="1496880" y="0"/>
            <a:ext cx="5778720" cy="3728880"/>
          </a:xfrm>
          <a:prstGeom prst="rect">
            <a:avLst/>
          </a:prstGeom>
          <a:ln w="0">
            <a:noFill/>
          </a:ln>
        </p:spPr>
      </p:pic>
      <p:pic>
        <p:nvPicPr>
          <p:cNvPr id="90" name="Picture 2" descr="Image result for software hack computers"/>
          <p:cNvPicPr/>
          <p:nvPr/>
        </p:nvPicPr>
        <p:blipFill>
          <a:blip r:embed="rId2"/>
          <a:stretch/>
        </p:blipFill>
        <p:spPr>
          <a:xfrm>
            <a:off x="2217600" y="3632040"/>
            <a:ext cx="4335480" cy="325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F1B12-FA7C-4C4A-997C-13E2C4AE26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Rectangle 4"/>
          <p:cNvSpPr/>
          <p:nvPr/>
        </p:nvSpPr>
        <p:spPr>
          <a:xfrm>
            <a:off x="604800" y="1190520"/>
            <a:ext cx="796140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r investigation also reveals that fingerprint data that enables access to laptops and smartphones is being sold on </a:t>
            </a:r>
            <a:r>
              <a:rPr b="0" lang="en-US" sz="3200" spc="-1" strike="noStrike" u="sng">
                <a:solidFill>
                  <a:srgbClr val="0000ff"/>
                </a:solidFill>
                <a:uFillTx/>
                <a:latin typeface="Calibri"/>
                <a:hlinkClick r:id="rId1"/>
              </a:rPr>
              <a:t>www.darkhacker.com</a:t>
            </a:r>
            <a:r>
              <a:rPr b="0" lang="en-US" sz="3200" spc="-1" strike="noStrike">
                <a:solidFill>
                  <a:srgbClr val="000000"/>
                </a:solidFill>
                <a:latin typeface="Calibri"/>
              </a:rPr>
              <a:t>. </a:t>
            </a:r>
            <a:r>
              <a:rPr b="0" lang="en-GB" sz="3200" spc="-1" strike="noStrike">
                <a:solidFill>
                  <a:srgbClr val="000000"/>
                </a:solidFill>
                <a:latin typeface="Calibri"/>
              </a:rPr>
              <a:t>In an attempt to identify the individuals operating DarkHacker, you conduct an undercover operation and purchase fingerprint data from www.darkhacker.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690DD-DED3-4C82-AD7A-019B0B30B2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2" descr="Image result for fingerprint data hack"/>
          <p:cNvPicPr/>
          <p:nvPr/>
        </p:nvPicPr>
        <p:blipFill>
          <a:blip r:embed="rId1"/>
          <a:stretch/>
        </p:blipFill>
        <p:spPr>
          <a:xfrm>
            <a:off x="-1351080" y="158760"/>
            <a:ext cx="7174080" cy="3724200"/>
          </a:xfrm>
          <a:prstGeom prst="rect">
            <a:avLst/>
          </a:prstGeom>
          <a:ln w="0">
            <a:noFill/>
          </a:ln>
        </p:spPr>
      </p:pic>
      <p:pic>
        <p:nvPicPr>
          <p:cNvPr id="95" name="Picture 4" descr="Image result for cyber police cartoon"/>
          <p:cNvPicPr/>
          <p:nvPr/>
        </p:nvPicPr>
        <p:blipFill>
          <a:blip r:embed="rId2"/>
          <a:srcRect l="11538" t="0" r="15754" b="0"/>
          <a:stretch/>
        </p:blipFill>
        <p:spPr>
          <a:xfrm>
            <a:off x="4051440" y="2357280"/>
            <a:ext cx="5518080" cy="450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D5D9D-8434-47E5-BF5A-EF55B2B202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Rectangle 4"/>
          <p:cNvSpPr/>
          <p:nvPr/>
        </p:nvSpPr>
        <p:spPr>
          <a:xfrm>
            <a:off x="477720" y="719280"/>
            <a:ext cx="8066160" cy="460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What cybercrime(s) was committed by hacking into and installing malware on the MENB serv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What cybercrime(s) can you identify as being committed by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Did you commit a cybercrime offence by purchasing fingerprint data from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34B0F-5CBD-4CE6-AFCF-C648A213FF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9" name="Rectangle 4"/>
          <p:cNvSpPr/>
          <p:nvPr/>
        </p:nvSpPr>
        <p:spPr>
          <a:xfrm>
            <a:off x="588960" y="1658880"/>
            <a:ext cx="796608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part of the undercover operation to purchase fingerprint data from DarkHacker, you are prompted to enter your email address to receive payment instructions. You receive an email from an email account </a:t>
            </a:r>
            <a:r>
              <a:rPr b="0" lang="en-GB" sz="3200" spc="-1" strike="noStrike" u="sng">
                <a:solidFill>
                  <a:srgbClr val="0000ff"/>
                </a:solidFill>
                <a:uFillTx/>
                <a:latin typeface="Calibri"/>
                <a:hlinkClick r:id="rId1"/>
              </a:rPr>
              <a:t>criminal@scammail.com</a:t>
            </a:r>
            <a:r>
              <a:rPr b="0" lang="en-GB" sz="3200" spc="-1" strike="noStrike">
                <a:solidFill>
                  <a:srgbClr val="000000"/>
                </a:solidFill>
                <a:latin typeface="Calibri"/>
              </a:rPr>
              <a:t> with instructions on how to make the payment using Bitco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57200" y="1600200"/>
            <a:ext cx="8229600" cy="4525920"/>
          </a:xfrm>
          <a:prstGeom prst="rect">
            <a:avLst/>
          </a:prstGeom>
          <a:ln w="0">
            <a:noFill/>
          </a:ln>
        </p:spPr>
      </p:pic>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0CEEE-AAF8-4C3D-A828-8EAE6D8A21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buy passwords online"/>
          <p:cNvPicPr/>
          <p:nvPr/>
        </p:nvPicPr>
        <p:blipFill>
          <a:blip r:embed="rId2"/>
          <a:stretch/>
        </p:blipFill>
        <p:spPr>
          <a:xfrm>
            <a:off x="210960" y="358920"/>
            <a:ext cx="3851280" cy="6140160"/>
          </a:xfrm>
          <a:prstGeom prst="rect">
            <a:avLst/>
          </a:prstGeom>
          <a:ln w="0">
            <a:noFill/>
          </a:ln>
        </p:spPr>
      </p:pic>
      <p:pic>
        <p:nvPicPr>
          <p:cNvPr id="104" name="Picture 4" descr="Image result for bitcoin checkout"/>
          <p:cNvPicPr/>
          <p:nvPr/>
        </p:nvPicPr>
        <p:blipFill>
          <a:blip r:embed="rId3"/>
          <a:stretch/>
        </p:blipFill>
        <p:spPr>
          <a:xfrm>
            <a:off x="4826160" y="0"/>
            <a:ext cx="38606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CBE40-1C58-4E3F-9F54-D3C37A0EE9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6" name="Rectangle 4"/>
          <p:cNvSpPr/>
          <p:nvPr/>
        </p:nvSpPr>
        <p:spPr>
          <a:xfrm>
            <a:off x="588960" y="920880"/>
            <a:ext cx="79660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r initial investigation reveals that the email service provider for </a:t>
            </a:r>
            <a:r>
              <a:rPr b="0" lang="en-US" sz="3200" spc="-1" strike="noStrike" u="sng">
                <a:solidFill>
                  <a:srgbClr val="0000ff"/>
                </a:solidFill>
                <a:uFillTx/>
                <a:latin typeface="Calibri"/>
                <a:ea typeface="Calibri"/>
                <a:hlinkClick r:id="rId1"/>
              </a:rPr>
              <a:t>criminal@scammail.com</a:t>
            </a:r>
            <a:r>
              <a:rPr b="0" lang="en-US" sz="3200" spc="-1" strike="noStrike">
                <a:solidFill>
                  <a:srgbClr val="000000"/>
                </a:solidFill>
                <a:latin typeface="Calibri"/>
                <a:ea typeface="Calibri"/>
              </a:rPr>
              <a:t> is Scam Mail Inc. You identify its website as </a:t>
            </a:r>
            <a:r>
              <a:rPr b="0" lang="en-US" sz="3200" spc="-1" strike="noStrike" u="sng">
                <a:solidFill>
                  <a:srgbClr val="0000ff"/>
                </a:solidFill>
                <a:uFillTx/>
                <a:latin typeface="Calibri"/>
                <a:ea typeface="Calibri"/>
                <a:hlinkClick r:id="rId2"/>
              </a:rPr>
              <a:t>www.scammailinc.com</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 learn from its website Scam Mail Inc has its head office and only data center in Middle Earth. You also learn that Scam Mail Inc. only retains data for a period of 7 days after which all data is dele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3EB6A1-432B-445D-93B9-BC7DA20491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998E2-D55F-4CAD-84B5-1F3912374D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2" descr="Image result for gmail data center"/>
          <p:cNvPicPr/>
          <p:nvPr/>
        </p:nvPicPr>
        <p:blipFill>
          <a:blip r:embed="rId1"/>
          <a:stretch/>
        </p:blipFill>
        <p:spPr>
          <a:xfrm>
            <a:off x="0" y="-9360"/>
            <a:ext cx="9144000" cy="3438360"/>
          </a:xfrm>
          <a:prstGeom prst="rect">
            <a:avLst/>
          </a:prstGeom>
          <a:ln w="0">
            <a:noFill/>
          </a:ln>
        </p:spPr>
      </p:pic>
      <p:grpSp>
        <p:nvGrpSpPr>
          <p:cNvPr id="109" name="Group 6"/>
          <p:cNvGrpSpPr/>
          <p:nvPr/>
        </p:nvGrpSpPr>
        <p:grpSpPr>
          <a:xfrm>
            <a:off x="1828800" y="3654360"/>
            <a:ext cx="5210280" cy="3203640"/>
            <a:chOff x="1828800" y="3654360"/>
            <a:chExt cx="5210280" cy="3203640"/>
          </a:xfrm>
        </p:grpSpPr>
        <p:pic>
          <p:nvPicPr>
            <p:cNvPr id="110" name="Picture 4" descr="Image result for data retention policy"/>
            <p:cNvPicPr/>
            <p:nvPr/>
          </p:nvPicPr>
          <p:blipFill>
            <a:blip r:embed="rId2"/>
            <a:stretch/>
          </p:blipFill>
          <p:spPr>
            <a:xfrm>
              <a:off x="1828800" y="3654360"/>
              <a:ext cx="5210280" cy="3203640"/>
            </a:xfrm>
            <a:prstGeom prst="rect">
              <a:avLst/>
            </a:prstGeom>
            <a:ln w="0">
              <a:noFill/>
            </a:ln>
          </p:spPr>
        </p:pic>
        <p:sp>
          <p:nvSpPr>
            <p:cNvPr id="111" name="TextBox 4"/>
            <p:cNvSpPr/>
            <p:nvPr/>
          </p:nvSpPr>
          <p:spPr>
            <a:xfrm flipH="1">
              <a:off x="3990240" y="5724720"/>
              <a:ext cx="135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7 day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2B600-36C4-460C-A7FA-BAFE3FA946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588960" y="920880"/>
            <a:ext cx="79660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 consider using the email addresses to identify the individuals behind DarkHacker.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 also consider obtaining details of other people contacted through the email account criminal@scammail.com in the last seven 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5" name="" descr=""/>
          <p:cNvPicPr/>
          <p:nvPr/>
        </p:nvPicPr>
        <p:blipFill>
          <a:blip r:embed="rId1"/>
          <a:stretch/>
        </p:blipFill>
        <p:spPr>
          <a:xfrm>
            <a:off x="457200" y="1600200"/>
            <a:ext cx="8229600" cy="4525920"/>
          </a:xfrm>
          <a:prstGeom prst="rect">
            <a:avLst/>
          </a:prstGeom>
          <a:ln w="0">
            <a:noFill/>
          </a:ln>
        </p:spPr>
      </p:pic>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73B53-DE02-47CB-B9D9-2386D7E234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7" name="Picture 2" descr="How to Trace any IP Address"/>
          <p:cNvPicPr/>
          <p:nvPr/>
        </p:nvPicPr>
        <p:blipFill>
          <a:blip r:embed="rId2"/>
          <a:stretch/>
        </p:blipFill>
        <p:spPr>
          <a:xfrm>
            <a:off x="0" y="0"/>
            <a:ext cx="7072200" cy="4498920"/>
          </a:xfrm>
          <a:prstGeom prst="rect">
            <a:avLst/>
          </a:prstGeom>
          <a:ln w="0">
            <a:noFill/>
          </a:ln>
        </p:spPr>
      </p:pic>
      <p:pic>
        <p:nvPicPr>
          <p:cNvPr id="118" name="Picture 2" descr="Image result for anonymous question mark"/>
          <p:cNvPicPr/>
          <p:nvPr/>
        </p:nvPicPr>
        <p:blipFill>
          <a:blip r:embed="rId3"/>
          <a:stretch/>
        </p:blipFill>
        <p:spPr>
          <a:xfrm>
            <a:off x="4572000" y="4614840"/>
            <a:ext cx="3484440" cy="21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7B403-DE45-4B33-8809-08E16EC8A4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0"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F36C2-38B9-446A-A134-71991DAB45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588960" y="25884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pon making the payment through Bitcoin, you receive another email from an email account fraud@hackmail.com with the fingerprint data attach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You again consider using the email address to identify the individuals behind DarkHacker. Your initial investigation reveals that Hack Mail Inc (headquarters in Mordor) does not have any office or data centers in Middle Earth but recently published advertisements regarding its free services in Middle Earthean language. Hack 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4" name="" descr=""/>
          <p:cNvPicPr/>
          <p:nvPr/>
        </p:nvPicPr>
        <p:blipFill>
          <a:blip r:embed="rId1"/>
          <a:stretch/>
        </p:blipFill>
        <p:spPr>
          <a:xfrm>
            <a:off x="457200" y="1600200"/>
            <a:ext cx="8229600" cy="4525920"/>
          </a:xfrm>
          <a:prstGeom prst="rect">
            <a:avLst/>
          </a:prstGeom>
          <a:ln w="0">
            <a:noFill/>
          </a:ln>
        </p:spPr>
      </p:pic>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0E2EE-5E86-45BF-B41F-E646C2D207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4" descr=""/>
          <p:cNvPicPr/>
          <p:nvPr/>
        </p:nvPicPr>
        <p:blipFill>
          <a:blip r:embed="rId2"/>
          <a:stretch/>
        </p:blipFill>
        <p:spPr>
          <a:xfrm>
            <a:off x="0" y="0"/>
            <a:ext cx="9144000" cy="695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22A85-1C29-4A57-816D-108CCBAA51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E79CE-907D-468E-9658-8BFCAF0A63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0" name="Picture 2" descr="Image result for online complaint cartoon"/>
          <p:cNvPicPr/>
          <p:nvPr/>
        </p:nvPicPr>
        <p:blipFill>
          <a:blip r:embed="rId1"/>
          <a:stretch/>
        </p:blipFill>
        <p:spPr>
          <a:xfrm>
            <a:off x="0" y="27000"/>
            <a:ext cx="5497560" cy="6831000"/>
          </a:xfrm>
          <a:prstGeom prst="rect">
            <a:avLst/>
          </a:prstGeom>
          <a:ln w="0">
            <a:noFill/>
          </a:ln>
        </p:spPr>
      </p:pic>
      <p:pic>
        <p:nvPicPr>
          <p:cNvPr id="131" name="Picture 4" descr="Image result for consent keyboard"/>
          <p:cNvPicPr/>
          <p:nvPr/>
        </p:nvPicPr>
        <p:blipFill>
          <a:blip r:embed="rId2"/>
          <a:stretch/>
        </p:blipFill>
        <p:spPr>
          <a:xfrm>
            <a:off x="5497560" y="2301840"/>
            <a:ext cx="3622680" cy="217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7FA3F-421B-4086-B8A6-59A9A45DA8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3"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user of fraud@hackmail.com to victims in Mor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82728-18FF-4CEA-B4D3-71536B7BFD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5" name="Rectangle 4"/>
          <p:cNvSpPr/>
          <p:nvPr/>
        </p:nvSpPr>
        <p:spPr>
          <a:xfrm>
            <a:off x="588960" y="638280"/>
            <a:ext cx="796608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pon analysis of the information you received from Hack Mail Inc. and Scam Mail Inc., you identify one individual part of the DarkHacker group: Boris Smith, a Middle Earth national.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appears to be no reason to believe that the data in the DarkHacker computer system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Arial"/>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Arial"/>
              </a:rPr>
              <a:t>Explain the scope and extent of the </a:t>
            </a:r>
            <a:r>
              <a:rPr b="0" lang="en-US" sz="2700" spc="-1" strike="noStrike">
                <a:solidFill>
                  <a:srgbClr val="000000"/>
                </a:solidFill>
                <a:latin typeface="Calibri"/>
                <a:ea typeface="Arial"/>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Arial"/>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109C246-467B-4693-9A68-DADBD467FA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7" name="" descr=""/>
          <p:cNvPicPr/>
          <p:nvPr/>
        </p:nvPicPr>
        <p:blipFill>
          <a:blip r:embed="rId1"/>
          <a:stretch/>
        </p:blipFill>
        <p:spPr>
          <a:xfrm>
            <a:off x="457200" y="1600200"/>
            <a:ext cx="8229600" cy="4525920"/>
          </a:xfrm>
          <a:prstGeom prst="rect">
            <a:avLst/>
          </a:prstGeom>
          <a:ln w="0">
            <a:noFill/>
          </a:ln>
        </p:spPr>
      </p:pic>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72F31-2F23-47D8-8ECE-7AB32F1EF8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9" name="Picture 2" descr="Image result for arrest computer"/>
          <p:cNvPicPr/>
          <p:nvPr/>
        </p:nvPicPr>
        <p:blipFill>
          <a:blip r:embed="rId2"/>
          <a:srcRect l="0" t="0" r="0" b="6953"/>
          <a:stretch/>
        </p:blipFill>
        <p:spPr>
          <a:xfrm>
            <a:off x="496800" y="368280"/>
            <a:ext cx="8150400" cy="612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8AE97-AEAA-4C23-8608-9B5366A38F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Rectangle 4"/>
          <p:cNvSpPr/>
          <p:nvPr/>
        </p:nvSpPr>
        <p:spPr>
          <a:xfrm>
            <a:off x="588960" y="2136600"/>
            <a:ext cx="79660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Smith informs you that the account fraud@hackmail.com was used to contact other DarkHacker agents. He also informs you of large scale transaction for the sale of Debit Card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43" name="" descr=""/>
          <p:cNvPicPr/>
          <p:nvPr/>
        </p:nvPicPr>
        <p:blipFill>
          <a:blip r:embed="rId1"/>
          <a:stretch/>
        </p:blipFill>
        <p:spPr>
          <a:xfrm>
            <a:off x="457200" y="1600200"/>
            <a:ext cx="8229600" cy="4525920"/>
          </a:xfrm>
          <a:prstGeom prst="rect">
            <a:avLst/>
          </a:prstGeom>
          <a:ln w="0">
            <a:noFill/>
          </a:ln>
        </p:spPr>
      </p:pic>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07897-9E8D-4DDD-A936-FA23B0C2B8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5" name="Picture 2" descr="Image result for debit card pin code list for sale darkweb"/>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C1407-3045-464F-91BD-FBFFA70DB3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7"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37FE8-EF48-43C1-BCC1-8B69CE5394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F839C-15D3-4D05-91F6-580BBBD947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2" name="Rectangle 4"/>
          <p:cNvSpPr/>
          <p:nvPr/>
        </p:nvSpPr>
        <p:spPr>
          <a:xfrm>
            <a:off x="477720" y="719280"/>
            <a:ext cx="8066160" cy="388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hacking into and installing malware on the MENB serv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41C1F-F929-4F0C-8DDC-4F14EBAC18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A3F80-3D9F-41ED-9690-22EFECDC50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28BDB-7CF9-4F1C-9AE5-5F5FA2FA87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 and background wallpaper;</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BCFC1-44E9-4D36-B4B2-D9385CC6EE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324C0-8E41-4791-84A4-202C1C7BC5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94C50-6A7F-40F3-A21A-B50E7EF210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2"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cybercrime(s) can you identify as being committed by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CA412-9746-4DAF-A455-95E70594FB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8BDB4-41C1-4F7E-9D25-23AD62B6AC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11D6A-0F23-4E46-897F-66D5BC3191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Did you commit a cybercrime offence by purchasing fingerprint data from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F833A-86A2-48E0-BB24-AED18C34AD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urchas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7C19C-E661-4159-905B-38D7901F2D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2B3C2-AD79-4C0A-AC72-FC2FF2C4DD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95329-860B-4F56-9022-C185E5BAC9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7"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9A49F-542E-4C35-BE32-6AA221E2D0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may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80749-4DDB-42A6-9146-83D72803A4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1CF4F-A629-47E3-9F20-7448C8599A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95684-6A87-40C0-BFAC-76A6F895DB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9EF8C-975D-4108-8E53-A79B16EA23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3D20F-B1D9-43AA-BAA9-B8E638E6E2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2716C-A0D2-40EC-BF26-DE3B9F0FF9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EA9E8-448A-4786-A659-23EC3E7873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1"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0B842-17F2-47DD-95A4-52272450E6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Content data </a:t>
            </a:r>
            <a:r>
              <a:rPr b="0" lang="en-GB" sz="2800" spc="-1" strike="noStrike">
                <a:solidFill>
                  <a:srgbClr val="000000"/>
                </a:solidFill>
                <a:latin typeface="Calibri"/>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Traffic data </a:t>
            </a:r>
            <a:r>
              <a:rPr b="0" lang="en-GB" sz="2800" spc="-1" strike="noStrike">
                <a:solidFill>
                  <a:srgbClr val="000000"/>
                </a:solidFill>
                <a:latin typeface="Calibri"/>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1D072-8158-40AD-AA94-E8B55B8661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97" name="Picture 3" descr=""/>
          <p:cNvPicPr/>
          <p:nvPr/>
        </p:nvPicPr>
        <p:blipFill>
          <a:blip r:embed="rId1"/>
          <a:stretch/>
        </p:blipFill>
        <p:spPr>
          <a:xfrm>
            <a:off x="6786720" y="4643280"/>
            <a:ext cx="1962000" cy="1766880"/>
          </a:xfrm>
          <a:prstGeom prst="rect">
            <a:avLst/>
          </a:prstGeom>
          <a:ln w="0">
            <a:noFill/>
          </a:ln>
        </p:spPr>
      </p:pic>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9E0B2-3D31-4C5C-B6F1-F06C099803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7B313-5499-4200-B372-2C80B9B76B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42746-F588-4CE4-B3E1-86A711F393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FB732-E56B-4D9F-B9ED-1A3976CC13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4" name="Rectangle 4"/>
          <p:cNvSpPr/>
          <p:nvPr/>
        </p:nvSpPr>
        <p:spPr>
          <a:xfrm>
            <a:off x="438120" y="257040"/>
            <a:ext cx="794700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ember of WTO and U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ty to Budapest Conven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iddle Earth’s Largest Bank: Middle Earth National Bank (MENB)</a:t>
            </a: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eighboring Countries: Rohan and Mordor</a:t>
            </a: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fficial Language: Middle Earthean</a:t>
            </a:r>
            <a:endParaRPr b="0" lang="en-US" sz="2700" spc="-1" strike="noStrike">
              <a:solidFill>
                <a:srgbClr val="000000"/>
              </a:solidFill>
              <a:latin typeface="Arial"/>
            </a:endParaRPr>
          </a:p>
        </p:txBody>
      </p:sp>
      <p:sp>
        <p:nvSpPr>
          <p:cNvPr id="65"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cus Country: Middle Ear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FE5F3-F1F4-4619-B9AC-324BB88662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09DCE-A63D-40F0-BCD9-CD52EE7B8A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Article 18 enables </a:t>
            </a:r>
            <a:r>
              <a:rPr b="0" lang="en-GB" sz="2800" spc="-1" strike="noStrike">
                <a:solidFill>
                  <a:srgbClr val="000000"/>
                </a:solidFill>
                <a:latin typeface="Calibri"/>
              </a:rPr>
              <a:t>you to order </a:t>
            </a:r>
            <a:r>
              <a:rPr b="1" lang="en-GB" sz="2800" spc="-1" strike="noStrike">
                <a:solidFill>
                  <a:srgbClr val="ff0000"/>
                </a:solidFill>
                <a:latin typeface="Calibri"/>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rPr>
              <a:t>The </a:t>
            </a:r>
            <a:r>
              <a:rPr b="1" lang="en-GB" sz="2800" spc="-1" strike="noStrike">
                <a:solidFill>
                  <a:srgbClr val="ff0000"/>
                </a:solidFill>
                <a:latin typeface="Calibri"/>
              </a:rPr>
              <a:t>subscriber information sought is in the possession and control of Hack Mail Inc</a:t>
            </a:r>
            <a:r>
              <a:rPr b="0" lang="en-GB"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Hack Mail Inc is offering services in Middle Earth</a:t>
            </a:r>
            <a:r>
              <a:rPr b="0" lang="en-GB" sz="2800" spc="-1" strike="noStrike">
                <a:solidFill>
                  <a:srgbClr val="000000"/>
                </a:solidFill>
                <a:latin typeface="Calibri"/>
              </a:rPr>
              <a:t> because it has s</a:t>
            </a:r>
            <a:r>
              <a:rPr b="1" lang="en-GB" sz="2800" spc="-1" strike="noStrike">
                <a:solidFill>
                  <a:srgbClr val="ff0000"/>
                </a:solidFill>
                <a:latin typeface="Calibri"/>
              </a:rPr>
              <a:t>ubscribers in Middle Earth</a:t>
            </a:r>
            <a:r>
              <a:rPr b="0" lang="en-GB" sz="2800" spc="-1" strike="noStrike">
                <a:solidFill>
                  <a:srgbClr val="000000"/>
                </a:solidFill>
                <a:latin typeface="Calibri"/>
              </a:rPr>
              <a:t> &amp; has </a:t>
            </a:r>
            <a:r>
              <a:rPr b="1" lang="en-GB" sz="2800" spc="-1" strike="noStrike">
                <a:solidFill>
                  <a:srgbClr val="ff0000"/>
                </a:solidFill>
                <a:latin typeface="Calibri"/>
              </a:rPr>
              <a:t>advertised in Middle Earth </a:t>
            </a:r>
            <a:r>
              <a:rPr b="0" lang="en-GB" sz="2800" spc="-1" strike="noStrike">
                <a:solidFill>
                  <a:srgbClr val="000000"/>
                </a:solidFill>
                <a:latin typeface="Calibri"/>
              </a:rPr>
              <a:t>in l</a:t>
            </a:r>
            <a:r>
              <a:rPr b="1" lang="en-GB" sz="2800" spc="-1" strike="noStrike">
                <a:solidFill>
                  <a:srgbClr val="ff0000"/>
                </a:solidFill>
                <a:latin typeface="Calibri"/>
              </a:rPr>
              <a:t>ocal language</a:t>
            </a:r>
            <a:endParaRPr b="0" lang="en-US" sz="2800" spc="-1" strike="noStrike">
              <a:solidFill>
                <a:srgbClr val="000000"/>
              </a:solidFill>
              <a:latin typeface="Arial"/>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D41B2-D19F-48EE-AE50-E5FB564C17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30B3F-8A26-48AA-B2BA-2B2BBD824E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0"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What is the most expeditious way to obtain emails sent by user of fraud@hackmail.com to victims in Mordor?</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3F593-AB5D-4B16-B731-A5321E0613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EAF7E-8851-4D3C-B3DD-E38E9C692C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216" name="Picture 3" descr=""/>
          <p:cNvPicPr/>
          <p:nvPr/>
        </p:nvPicPr>
        <p:blipFill>
          <a:blip r:embed="rId1"/>
          <a:stretch/>
        </p:blipFill>
        <p:spPr>
          <a:xfrm>
            <a:off x="6786720" y="4643280"/>
            <a:ext cx="1962000" cy="1766880"/>
          </a:xfrm>
          <a:prstGeom prst="rect">
            <a:avLst/>
          </a:prstGeom>
          <a:ln w="0">
            <a:noFill/>
          </a:ln>
        </p:spPr>
      </p:pic>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9479C-970E-4D60-ABB5-0BB5CB19F1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D256A-EE8A-40D4-9CB8-03B4A68D62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C53D3-215E-4F52-9114-6FFA0613D8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634A9-EEAA-4058-8FAE-417E8B526D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192240" y="934920"/>
            <a:ext cx="9055080" cy="578664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84429-EFCC-4C47-BDC2-55A5C1ABBB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9" name="Picture 4" descr=""/>
          <p:cNvPicPr/>
          <p:nvPr/>
        </p:nvPicPr>
        <p:blipFill>
          <a:blip r:embed="rId2"/>
          <a:stretch/>
        </p:blipFill>
        <p:spPr>
          <a:xfrm>
            <a:off x="4579920" y="2637000"/>
            <a:ext cx="2597040" cy="1433520"/>
          </a:xfrm>
          <a:prstGeom prst="rect">
            <a:avLst/>
          </a:prstGeom>
          <a:ln w="0">
            <a:noFill/>
          </a:ln>
        </p:spPr>
      </p:pic>
      <p:pic>
        <p:nvPicPr>
          <p:cNvPr id="70" name="Picture 4" descr=""/>
          <p:cNvPicPr/>
          <p:nvPr/>
        </p:nvPicPr>
        <p:blipFill>
          <a:blip r:embed="rId3"/>
          <a:stretch/>
        </p:blipFill>
        <p:spPr>
          <a:xfrm>
            <a:off x="2319480" y="4842000"/>
            <a:ext cx="1299960" cy="1177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B0587-6099-42CF-9E91-9C08B16827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4D2BC-405E-48F1-9BEC-C7CE3C0E5A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310C7-97FE-4251-877A-E1983F7851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00B8C-193A-4DE9-95C6-186B4DAEF9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3F55B-748D-46C5-8A60-01F5AB046E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3"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CF4D8-F4E8-495A-984D-B9F941648A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2F87C-27D8-4465-A041-0B4207A000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Question Mark Clip Art"/>
          <p:cNvPicPr/>
          <p:nvPr/>
        </p:nvPicPr>
        <p:blipFill>
          <a:blip r:embed="rId1"/>
          <a:stretch/>
        </p:blipFill>
        <p:spPr>
          <a:xfrm>
            <a:off x="3143160" y="1357200"/>
            <a:ext cx="2857680" cy="2857680"/>
          </a:xfrm>
          <a:prstGeom prst="rect">
            <a:avLst/>
          </a:prstGeom>
          <a:ln w="0">
            <a:noFill/>
          </a:ln>
        </p:spPr>
      </p:pic>
      <p:sp>
        <p:nvSpPr>
          <p:cNvPr id="23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E8AB8-6A11-431C-92F0-576106AD75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23A67-0278-48EF-9831-A78B0A3241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2" name="Picture 2" descr="Image result for united nations logo"/>
          <p:cNvPicPr/>
          <p:nvPr/>
        </p:nvPicPr>
        <p:blipFill>
          <a:blip r:embed="rId1"/>
          <a:stretch/>
        </p:blipFill>
        <p:spPr>
          <a:xfrm>
            <a:off x="131760" y="0"/>
            <a:ext cx="4105440" cy="4105440"/>
          </a:xfrm>
          <a:prstGeom prst="rect">
            <a:avLst/>
          </a:prstGeom>
          <a:ln w="0">
            <a:noFill/>
          </a:ln>
        </p:spPr>
      </p:pic>
      <p:pic>
        <p:nvPicPr>
          <p:cNvPr id="73" name="Picture 4" descr="Image result for world trade organization logo"/>
          <p:cNvPicPr/>
          <p:nvPr/>
        </p:nvPicPr>
        <p:blipFill>
          <a:blip r:embed="rId2"/>
          <a:stretch/>
        </p:blipFill>
        <p:spPr>
          <a:xfrm>
            <a:off x="4616280" y="317520"/>
            <a:ext cx="4343400" cy="3257640"/>
          </a:xfrm>
          <a:prstGeom prst="rect">
            <a:avLst/>
          </a:prstGeom>
          <a:ln w="0">
            <a:noFill/>
          </a:ln>
        </p:spPr>
      </p:pic>
      <p:pic>
        <p:nvPicPr>
          <p:cNvPr id="74" name="Picture 2" descr=""/>
          <p:cNvPicPr/>
          <p:nvPr/>
        </p:nvPicPr>
        <p:blipFill>
          <a:blip r:embed="rId3"/>
          <a:stretch/>
        </p:blipFill>
        <p:spPr>
          <a:xfrm>
            <a:off x="2116080" y="3722760"/>
            <a:ext cx="4998960" cy="291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FA3F4-C23A-4E2E-967F-A04981A5FB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Rectangle 4"/>
          <p:cNvSpPr/>
          <p:nvPr/>
        </p:nvSpPr>
        <p:spPr>
          <a:xfrm>
            <a:off x="565200" y="-19080"/>
            <a:ext cx="79470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a law enforcement official of Middle Earth</a:t>
            </a: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responsible for investigating cybercrimes in Middle Earth</a:t>
            </a: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bbas Lotia</cp:lastModifiedBy>
  <dcterms:modified xsi:type="dcterms:W3CDTF">2018-09-19T17:03:16Z</dcterms:modified>
  <cp:revision>531</cp:revision>
  <dc:subject/>
  <dc:title>Introductory Cybercrime Training for Judges and Prosecutors</dc:title>
</cp:coreProperties>
</file>